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EC33A-A65C-479F-9C14-6D552B1DF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395856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77CF8-E6B8-4E01-A6EC-7288E52303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256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2560" y="395856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3B03-8D3A-42B8-9135-6EAA46112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5080" y="137160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7880" y="137160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395856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5080" y="395856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7880" y="395856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CB3FE-4659-4033-B35D-5DA360C913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80" y="13716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2560" y="137160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81160" y="12348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2560" y="137160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13716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F3F9E-F5BE-40E6-9033-6B3FE722B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256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2560" y="395856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256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80" y="395856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256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2560" y="395856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15080" y="137160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7880" y="137160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80" y="395856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15080" y="395856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7880" y="395856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157C2-54C8-4B33-81BC-048AE0AE6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2560" y="137160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6C63A-4792-4FD5-A895-B3EC03ACA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55C15-9341-45A6-8379-90BFC1CD3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81160" y="12348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50FA4-2BB1-4188-ADF6-FCA2BC9AF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2560" y="137160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4A539-F81A-4A1C-BF83-EAD27FDF7B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256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2560" y="395856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B2189-0E42-4013-BDC7-D0E458671C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256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2625-FBD7-4B88-BD68-326E90177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93680" y="68400"/>
            <a:ext cx="8381880" cy="1141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280" y="13716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397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E956-975A-497A-A6EF-57A11DF1E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8600" y="6394320"/>
            <a:ext cx="8153280" cy="0"/>
          </a:xfrm>
          <a:prstGeom prst="line">
            <a:avLst/>
          </a:prstGeom>
          <a:ln w="25560">
            <a:solidFill>
              <a:srgbClr val="005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00240" y="6400800"/>
            <a:ext cx="340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National Alliance for Medical Image Computing </a:t>
            </a:r>
            <a:br>
              <a:rPr sz="1200"/>
            </a:b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http://na-mi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3680" y="422280"/>
            <a:ext cx="8381880" cy="1141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19807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8600" y="6172200"/>
            <a:ext cx="8153280" cy="0"/>
          </a:xfrm>
          <a:prstGeom prst="line">
            <a:avLst/>
          </a:prstGeom>
          <a:ln w="25560">
            <a:solidFill>
              <a:srgbClr val="005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57920" y="380880"/>
            <a:ext cx="606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8080"/>
                </a:solidFill>
                <a:latin typeface="Arial"/>
              </a:rPr>
              <a:t>NA-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8080"/>
                </a:solidFill>
                <a:latin typeface="Arial"/>
              </a:rPr>
              <a:t>National Alliance for Medical Image Computing </a:t>
            </a:r>
            <a:br>
              <a:rPr sz="2200"/>
            </a:br>
            <a:r>
              <a:rPr b="0" i="1" lang="en-US" sz="2200" spc="-1" strike="noStrike">
                <a:solidFill>
                  <a:srgbClr val="808080"/>
                </a:solidFill>
                <a:latin typeface="Arial"/>
              </a:rPr>
              <a:t>http://na-mic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Slicer3 Launch and Pack:</a:t>
            </a:r>
            <a:br>
              <a:rPr sz="30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etting up an efficient and workable deployment solution for Slicer3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13716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160020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Steve Pieper, Will Schroeder, Sebastien Barre, Jim Miller, Bill Lorensen, Andy Cedilni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1484280"/>
            <a:ext cx="4724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Define details of slicer3’s launcher (order from the current chao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Issues: quick startup, cross-platform maintainability, finding modules, error detection/feedback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Options: static builds, C++ launcher, Tcl Launcher, BAT/Shell Script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69720" y="117000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lan/Expected Challenges/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680" y="117648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240" y="3747960"/>
            <a:ext cx="41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ccomplished by end of Programming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18240" y="3733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4221000"/>
            <a:ext cx="4724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Meeting took place on Friday – everyone was in attenda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Consensu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117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cannot build static since plugins may require any/all of vtk/itk/slic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117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dynamic builds require launcher to find shared libr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117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launcher has other benefi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7117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quick splash scre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7117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catch errors/cras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80000" y="4076640"/>
            <a:ext cx="3240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Pla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117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a starpack solution like slicer2 uses will be</a:t>
            </a:r>
            <a:br>
              <a:rPr sz="1400"/>
            </a:b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put in place (Ste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7117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this is a fully-static executable that can </a:t>
            </a:r>
            <a:br>
              <a:rPr sz="1400"/>
            </a:b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  be programmed in tcl/tk to set up the </a:t>
            </a:r>
            <a:br>
              <a:rPr sz="1400"/>
            </a:b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  environment and launch/monitor</a:t>
            </a:r>
            <a:br>
              <a:rPr sz="1400"/>
            </a:b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  the Slicer3-real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4:50:34Z</dcterms:created>
  <dc:creator>Vincent A. Magnotta</dc:creator>
  <dc:description/>
  <dc:language>en-US</dc:language>
  <cp:lastModifiedBy> Steve Pieper</cp:lastModifiedBy>
  <cp:lastPrinted>2009-04-22T19:24:48Z</cp:lastPrinted>
  <dcterms:modified xsi:type="dcterms:W3CDTF">2007-01-22T16:00:58Z</dcterms:modified>
  <cp:revision>4</cp:revision>
  <dc:subject/>
  <dc:title>Bone Meshing: Develop meshing algorithms suitable for surface contact analysis. Integrate these algorithms and required user interaction into Slicer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